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C62-50A1-4F7C-8C37-7644FEAE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3D2-DBC2-403E-B6AC-CBF4C2E7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00B-A1E3-4617-81A6-A8E72627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E0D-7404-4DE8-B665-50F055AA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D48-AA44-4DDD-99F6-FB673111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16E-5740-4A44-8FC6-1128CCC6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1EC5-54D7-449D-BBB0-BBD055AE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5ED-D476-4C8C-B244-B873207A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E2C-3F8C-4D06-8BC3-F7A75866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80D-5451-472D-A490-8DB67300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C01-B337-43E3-BDC2-5C3187A2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FFB4-7420-47FE-BBA1-5EF469D6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73E6-B7D9-4440-95E1-81CA73AA8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204360" y="5294160"/>
            <a:ext cx="3405240" cy="1443960"/>
          </a:xfrm>
          <a:prstGeom prst="rect">
            <a:avLst/>
          </a:prstGeom>
          <a:noFill/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flipH="1" rot="21547800">
            <a:off x="2050200" y="549000"/>
            <a:ext cx="5473800" cy="4921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35280" y="6210360"/>
            <a:ext cx="48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GLOBALIZZAZIO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16360" y="2852640"/>
            <a:ext cx="2808000" cy="863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179000">
            <a:off x="539640" y="1844280"/>
            <a:ext cx="2340000" cy="1224000"/>
          </a:xfrm>
          <a:prstGeom prst="rightArrow">
            <a:avLst>
              <a:gd name="adj1" fmla="val 50000"/>
              <a:gd name="adj2" fmla="val 47794"/>
            </a:avLst>
          </a:prstGeom>
          <a:solidFill>
            <a:srgbClr val="00ff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ZZI TRASPO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0609400">
            <a:off x="323640" y="3860280"/>
            <a:ext cx="2752560" cy="1359000"/>
          </a:xfrm>
          <a:prstGeom prst="rightArrow">
            <a:avLst>
              <a:gd name="adj1" fmla="val 50000"/>
              <a:gd name="adj2" fmla="val 50636"/>
            </a:avLst>
          </a:prstGeom>
          <a:solidFill>
            <a:srgbClr val="00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ZZI  DI COMUN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219640" y="1341000"/>
            <a:ext cx="194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651640" y="2420640"/>
            <a:ext cx="1225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51640" y="3645000"/>
            <a:ext cx="79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4221000"/>
            <a:ext cx="576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2720" y="5877000"/>
            <a:ext cx="1081080" cy="981000"/>
          </a:xfrm>
          <a:prstGeom prst="rect">
            <a:avLst/>
          </a:prstGeom>
          <a:solidFill>
            <a:srgbClr val="ff3399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i di vi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77080" y="189000"/>
            <a:ext cx="1763640" cy="1079280"/>
          </a:xfrm>
          <a:prstGeom prst="rect">
            <a:avLst/>
          </a:prstGeom>
          <a:solidFill>
            <a:srgbClr val="ff33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28000" y="1916280"/>
            <a:ext cx="2016000" cy="1008000"/>
          </a:xfrm>
          <a:prstGeom prst="rect">
            <a:avLst/>
          </a:prstGeom>
          <a:solidFill>
            <a:srgbClr val="ff3399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‘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4941720"/>
            <a:ext cx="2197080" cy="936720"/>
          </a:xfrm>
          <a:prstGeom prst="rect">
            <a:avLst/>
          </a:prstGeom>
          <a:solidFill>
            <a:srgbClr val="ff3399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884720" y="2924280"/>
            <a:ext cx="7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3645000"/>
            <a:ext cx="1834920" cy="792000"/>
          </a:xfrm>
          <a:prstGeom prst="rect">
            <a:avLst/>
          </a:prstGeom>
          <a:solidFill>
            <a:srgbClr val="66ff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à multietn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8:40Z</dcterms:created>
  <dc:creator>informatica20</dc:creator>
  <dc:description/>
  <dc:language>en-US</dc:language>
  <cp:lastModifiedBy>informatica20</cp:lastModifiedBy>
  <dcterms:modified xsi:type="dcterms:W3CDTF">2017-01-09T10:00:28Z</dcterms:modified>
  <cp:revision>9</cp:revision>
  <dc:subject/>
  <dc:title>Diapositiva 1</dc:title>
</cp:coreProperties>
</file>